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F540-3598-445D-89AA-9C109D2E5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F83E-3CE9-4ECC-9ABB-9F1A25180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E694-40CE-429F-A48E-1FE4026C9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2AB2-6F6F-4FB3-B35F-DDC774A4A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E75D-58E7-4A44-A722-F74FBF8C7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D54A-15EE-4EAB-8A73-310BFD30F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974B-EE71-403A-8EB9-88D125C52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2BD8-D508-4EC4-A4FB-FB5E90900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F319-8D06-4148-BB96-653B13A35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B966-5D05-4B7B-9353-49F2A89EC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330A-2547-4490-837E-8A8E08DAB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BE62-E1CD-4325-8275-47B97E86D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C55FC86-422E-48AC-A5FF-B3F914F9588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9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1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1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1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 X 7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 X 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5-16T21:51:06Z</dcterms:modified>
  <cp:revision>4</cp:revision>
  <dc:subject/>
  <dc:title/>
</cp:coreProperties>
</file>